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B55A7-2BBB-46E3-A6EF-A2EAE34D3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AA04A-F16D-4099-A17D-AD519766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413E6-94F9-4DF5-8898-8D88E0F1D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316DD-DCB4-4D54-A6BF-FA299A7C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88586-53D3-4F12-AB68-8CA313870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39560-792D-48E0-BDA9-E50E29FA8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20AA2-CBE7-4643-9908-1B6791CAF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44568-B81F-4A2A-8438-373358D2A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60E65-C3B1-4DF6-B926-6A4C9503C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D5E1A-B375-4A18-ACCA-6DB4DCB72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3CC56-4E2A-4192-8063-C2701F0C3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06800-9E1D-4005-B5B4-CDD51028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193BE-B18E-4E73-A3A8-F623B8AA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49DA0-1280-4B27-9D05-8776BF0B3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088BE-5C35-4FB5-B1ED-AE7C163A2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8B05B-839B-4758-8FAD-C4E74607C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271FB-6072-47B5-8ED4-3FA2BCF9E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DC63-032D-4FAF-8F67-4C212E3C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DB73-14FC-44D3-9864-875B1948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B979D-722F-4D9C-9AF0-AEAFB9D9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78F3-F3B2-4067-8A07-2B56C80F3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B9BE-E89C-4908-9486-F6AD8959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466F-6D20-4F35-8FCC-951EEB72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9A84-1860-4E8D-A1BD-B9CBAD7F3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756C-3EEC-4EA7-89A5-EFDE54D48BD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E61B-745D-4217-959A-C3D860FF19E6}"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de.teikav.edu.gr/telematics/pdf/3o_Meros_Asyrmata_thlematikh.pd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indows.microsoft.com/el-GR/windows-vista/Wireless-networking-frequently-asked-question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hyperlink" Target="http://users.sch.gr/angnikolou/tech_v/wireless.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905120"/>
            <a:ext cx="858384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b7"/>
                </a:solidFill>
                <a:latin typeface="Arial Black"/>
              </a:rPr>
              <a:t>    </a:t>
            </a:r>
            <a:r>
              <a:rPr b="1" lang="el-GR" sz="3200" spc="-1" strike="noStrike">
                <a:solidFill>
                  <a:srgbClr val="ffffb7"/>
                </a:solidFill>
                <a:latin typeface="Arial Black"/>
              </a:rPr>
              <a:t>ΕΡΓΑΣΙΑ ΑΣΥΡΜΑΤΑ ΔΙΚΤΥΑ</a:t>
            </a:r>
            <a:br>
              <a:rPr sz="3200"/>
            </a:br>
            <a:r>
              <a:rPr b="1" lang="el-GR" sz="3200" spc="-1" strike="noStrike">
                <a:solidFill>
                  <a:srgbClr val="ffffb7"/>
                </a:solidFill>
                <a:latin typeface="Arial Black"/>
              </a:rPr>
              <a:t>                    ΟΜΑΔΑ 3</a:t>
            </a:r>
            <a:br>
              <a:rPr sz="3200"/>
            </a:br>
            <a:r>
              <a:rPr b="1" lang="el-GR" sz="3200" spc="-1" strike="noStrike">
                <a:solidFill>
                  <a:srgbClr val="ffffb7"/>
                </a:solidFill>
                <a:latin typeface="Arial Black"/>
              </a:rPr>
              <a:t>       ΧΑΪΔΕΜΕΝΟΣ ΓΙΩΡΓΟΣ ΒΠ</a:t>
            </a:r>
            <a:endParaRPr b="1" lang="en-US" sz="32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Μειονεκτήματα των ασύρματων       δικτύων</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400" spc="-1" strike="noStrike">
              <a:solidFill>
                <a:srgbClr val="ffffb7"/>
              </a:solidFill>
              <a:latin typeface="Arial Black"/>
            </a:endParaRPr>
          </a:p>
        </p:txBody>
      </p:sp>
      <p:pic>
        <p:nvPicPr>
          <p:cNvPr id="101" name="Picture 9" descr="wifi"/>
          <p:cNvPicPr/>
          <p:nvPr/>
        </p:nvPicPr>
        <p:blipFill>
          <a:blip r:embed="rId1"/>
          <a:stretch/>
        </p:blipFill>
        <p:spPr>
          <a:xfrm>
            <a:off x="1343160" y="1905120"/>
            <a:ext cx="2917800" cy="2019240"/>
          </a:xfrm>
          <a:prstGeom prst="rect">
            <a:avLst/>
          </a:prstGeom>
          <a:ln w="0">
            <a:noFill/>
          </a:ln>
        </p:spPr>
      </p:pic>
      <p:pic>
        <p:nvPicPr>
          <p:cNvPr id="102" name="Picture 10" descr="Wireless_access_point"/>
          <p:cNvPicPr/>
          <p:nvPr/>
        </p:nvPicPr>
        <p:blipFill>
          <a:blip r:embed="rId2"/>
          <a:stretch/>
        </p:blipFill>
        <p:spPr>
          <a:xfrm>
            <a:off x="4500720" y="2048040"/>
            <a:ext cx="3958920" cy="2028600"/>
          </a:xfrm>
          <a:prstGeom prst="rect">
            <a:avLst/>
          </a:prstGeom>
          <a:ln w="0">
            <a:noFill/>
          </a:ln>
        </p:spPr>
      </p:pic>
      <p:pic>
        <p:nvPicPr>
          <p:cNvPr id="103" name="Picture 11" descr="wireless-network-1a"/>
          <p:cNvPicPr/>
          <p:nvPr/>
        </p:nvPicPr>
        <p:blipFill>
          <a:blip r:embed="rId3"/>
          <a:stretch/>
        </p:blipFill>
        <p:spPr>
          <a:xfrm>
            <a:off x="1287360" y="4076640"/>
            <a:ext cx="3029040" cy="2019240"/>
          </a:xfrm>
          <a:prstGeom prst="rect">
            <a:avLst/>
          </a:prstGeom>
          <a:ln w="0">
            <a:noFill/>
          </a:ln>
        </p:spPr>
      </p:pic>
      <p:pic>
        <p:nvPicPr>
          <p:cNvPr id="104" name="Picture 12" descr="--_1_~1"/>
          <p:cNvPicPr/>
          <p:nvPr/>
        </p:nvPicPr>
        <p:blipFill>
          <a:blip r:embed="rId4"/>
          <a:stretch/>
        </p:blipFill>
        <p:spPr>
          <a:xfrm>
            <a:off x="4500720" y="4076640"/>
            <a:ext cx="372744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             </a:t>
            </a:r>
            <a:r>
              <a:rPr b="1" lang="el-GR" sz="4400" spc="-1" strike="noStrike">
                <a:solidFill>
                  <a:srgbClr val="ffffb7"/>
                </a:solidFill>
                <a:latin typeface="Comic Sans MS"/>
              </a:rPr>
              <a:t>Παρεμβολές</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20192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Σε γενικές γραμμές, τα ασύρματα δίκτυα είναι τουλάχιστον το ίδιο αξιόπιστα     με τα ενσύρματα και πιο εύκολα στην αντιμετώπιση προβλημάτων.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Όμως είναι ευάλωτα στις παρεμβολές. Οι παρεμβολές αυτές μπορεί να προέρχονται από απλές ηλεκτρονικές ή ηλεκτρομηχανικές συσκευές, όπως ασύρματα και κινητά τηλέφωνα, ασύρματο πληκτρολόγιο, ποντίκι. </a:t>
            </a:r>
            <a:r>
              <a:rPr b="0" lang="el-GR" sz="1800" spc="-1" strike="noStrike" u="sng">
                <a:solidFill>
                  <a:srgbClr val="99ff66"/>
                </a:solidFill>
                <a:uFillTx/>
                <a:latin typeface="Comic Sans MS"/>
                <a:hlinkClick r:id="rId1"/>
              </a:rPr>
              <a:t>http://dp.it.teithe.gr/files/ptyxiakes/Asterisk.pdf</a:t>
            </a:r>
            <a:endParaRPr b="0" lang="en-US" sz="1800" spc="-1" strike="noStrike">
              <a:solidFill>
                <a:srgbClr val="ffffff"/>
              </a:solidFill>
              <a:latin typeface="Arial"/>
            </a:endParaRPr>
          </a:p>
        </p:txBody>
      </p:sp>
      <p:pic>
        <p:nvPicPr>
          <p:cNvPr id="107" name="Picture 5" descr="wireless-network"/>
          <p:cNvPicPr/>
          <p:nvPr/>
        </p:nvPicPr>
        <p:blipFill>
          <a:blip r:embed="rId2"/>
          <a:stretch/>
        </p:blipFill>
        <p:spPr>
          <a:xfrm>
            <a:off x="1547640" y="4076640"/>
            <a:ext cx="6840720" cy="23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336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ffffb7"/>
              </a:solidFill>
              <a:latin typeface="Arial Black"/>
            </a:endParaRPr>
          </a:p>
        </p:txBody>
      </p:sp>
      <p:sp>
        <p:nvSpPr>
          <p:cNvPr id="109" name="PlaceHolder 2"/>
          <p:cNvSpPr>
            <a:spLocks noGrp="1"/>
          </p:cNvSpPr>
          <p:nvPr>
            <p:ph/>
          </p:nvPr>
        </p:nvSpPr>
        <p:spPr>
          <a:xfrm>
            <a:off x="826920" y="404640"/>
            <a:ext cx="3927600" cy="612000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Εάν ένας ισχυρός αναμεταδότης, που λειτουργεί στην ίδια ραδιοσυχνότητα με ένα ασύρματο δίκτυο, βρίσκεται κοντά στο δίκτυο τότε το δίκτυο μπορεί να καταστεί άχρηστο. Αυτό φυσικά μπορεί να γίνει και με κακόβουλη πρόθεση από κάποιον ο οποίος θέλει να εξαπολύσει μια επίθεση προς το δίκτυο.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Τα ασύρματα δίκτυα είναι ευάλωτα σε επιθέσεις. Από τη στιγμή που το ασύρματο μέσο είναι κοινόχρηστο, όλοι οι ασύρματοι σταθμοί εργασίας μπορούν να «δουν» όλη την κίνηση που διασχίζει το μέσο ακριβώς με τον ίδιο τρόπο που ισχύει στους διασυνδεδεμένους με καλώδιο σε ένα hub σταθμούς εργασίας σε ένα Ethernet δίκτυο. Εάν δεν ληφθούν κάποια μέτρα για την προστασία των δεδομένων που μεταδίδονται στο μέσο τότε αυτά μπορούν να διαβαστούν από εξωτερικούς ή εσωτερικούς κακόβουλους χρήστες. Μια πολιτική ασφαλείας είναι απαραίτητη σε κάθε εγκατάσταση ασύρματου δικτύου. </a:t>
            </a:r>
            <a:r>
              <a:rPr b="0" lang="el-GR" sz="1600" spc="-1" strike="noStrike" u="sng">
                <a:solidFill>
                  <a:srgbClr val="99ff66"/>
                </a:solidFill>
                <a:uFillTx/>
                <a:latin typeface="Comic Sans MS"/>
                <a:hlinkClick r:id="rId1"/>
              </a:rPr>
              <a:t>http://de.teikav.edu.gr/telematics/pdf/3o_Meros_Asyrmata_thlematikh.pdf</a:t>
            </a:r>
            <a:endParaRPr b="0" lang="en-US" sz="1600" spc="-1" strike="noStrike">
              <a:solidFill>
                <a:srgbClr val="ffffff"/>
              </a:solidFill>
              <a:latin typeface="Arial"/>
            </a:endParaRPr>
          </a:p>
        </p:txBody>
      </p:sp>
      <p:pic>
        <p:nvPicPr>
          <p:cNvPr id="110" name="Εικόνα 1" descr="Εικόνα ασύρματου δικτύου με κοινόχρηστη σύνδεση στο Internet"/>
          <p:cNvPicPr/>
          <p:nvPr/>
        </p:nvPicPr>
        <p:blipFill>
          <a:blip r:embed="rId2"/>
          <a:stretch/>
        </p:blipFill>
        <p:spPr>
          <a:xfrm>
            <a:off x="4859280" y="1125360"/>
            <a:ext cx="4033800" cy="491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64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ffffb7"/>
              </a:solidFill>
              <a:latin typeface="Arial Black"/>
            </a:endParaRPr>
          </a:p>
        </p:txBody>
      </p:sp>
      <p:sp>
        <p:nvSpPr>
          <p:cNvPr id="112" name="PlaceHolder 2"/>
          <p:cNvSpPr>
            <a:spLocks noGrp="1"/>
          </p:cNvSpPr>
          <p:nvPr>
            <p:ph/>
          </p:nvPr>
        </p:nvSpPr>
        <p:spPr>
          <a:xfrm>
            <a:off x="837720" y="620280"/>
            <a:ext cx="8007480" cy="5761080"/>
          </a:xfrm>
          <a:prstGeom prst="rect">
            <a:avLst/>
          </a:prstGeom>
          <a:noFill/>
          <a:ln w="0">
            <a:noFill/>
          </a:ln>
        </p:spPr>
        <p:txBody>
          <a:bodyPr anchor="t">
            <a:normAutofit fontScale="98000"/>
          </a:bodyPr>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Η ασφάλεια είναι και αυτή ένα σημαντικό μέρος. Μη σωστά εγκατεστημένα δίκτυα ή δίκτυα με χαμηλή ασφάλεια μπορούν πολύ εύκολα να παραβιαστούν από άτομα ειδικευμένα στις παραβιάσεις (hackers).</a:t>
            </a:r>
            <a:endParaRPr b="0" lang="en-US" sz="2400" spc="-1" strike="noStrike">
              <a:solidFill>
                <a:srgbClr val="ffffff"/>
              </a:solidFill>
              <a:latin typeface="Arial"/>
            </a:endParaRPr>
          </a:p>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Ούτως ή άλλως το φλέγον ζήτημα στις εφαρμογές δικτύωσης. Ο κίνδυνος εισβολής στο δίκτυο μας είναι πάντα υπαρκτός. Τα ασύρματα δίκτυα τηρούν δικές τους διαδικασίες προστασίας με πιο διαδεδομένες μεθόδους τις : WEP, MAC/IP, Filtering, Protocol Filtering, δόμηση κλειστού δικτύου και VPNs.</a:t>
            </a:r>
            <a:endParaRPr b="0" lang="en-US" sz="2400" spc="-1" strike="noStrike">
              <a:solidFill>
                <a:srgbClr val="ffffff"/>
              </a:solidFill>
              <a:latin typeface="Arial"/>
            </a:endParaRPr>
          </a:p>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Αξίζει να σημειωθεί ότι πολλές τράπεζες χρησιμοποιούν ασύρματα links για την σύνδεση υποκαταστημάτων τους χωρίς να έχει αναφερθεί μέχρι σήμερα παραβίαση συστημάτων. </a:t>
            </a:r>
            <a:r>
              <a:rPr b="0" lang="el-GR" sz="2400" spc="-1" strike="noStrike" u="sng">
                <a:solidFill>
                  <a:srgbClr val="99ff66"/>
                </a:solidFill>
                <a:uFillTx/>
                <a:latin typeface="Comic Sans MS"/>
                <a:hlinkClick r:id="rId1"/>
              </a:rPr>
              <a:t>http://dp.it.teithe.gr/files/ptyxiakes/Asterisk.pd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b7"/>
                </a:solidFill>
                <a:latin typeface="Comic Sans MS"/>
              </a:rPr>
              <a:t>ΟΙ ΚΙΝΔΥΝΟΙ ΣΥΝΔΕΣΗΣ ΜΕ ΕΝΑ     ΔΗΜΟΣΙΟ ΑΣΥΡΜΑΤΟ ΔΙΚΤΥΟ</a:t>
            </a:r>
            <a:endParaRPr b="1" lang="en-US" sz="32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Τα δημόσια ασύρματα δίκτυα είναι βολικά, αλλά, εάν δεν διαθέτουν την κατάλληλη προστασία, η σύνδεση σε αυτά μπορεί να ενέχει κινδύνους. Όταν αυτό είναι δυνατό, καλό είναι να συνδέεστε αποκλειστικά σε ασύρματα δίκτυα που απαιτούν κλειδί ασφαλείας δικτύου ή διαθέτουν ασφάλεια άλλου είδους, όπως για παράδειγμα πιστοποιητικό. Οι πληροφορίες που αποστέλλονται μέσω αυτών των δικτύων είναι κρυπτογραφημένες. Έτσι ο υπολογιστής σας προστατεύεται καλύτερα από τη μη εξουσιοδοτημένη πρόσβαση. Στη λίστα των διαθέσιμων ασύρματων δικτύων, κάθε δίκτυο σημαίνεται ανάλογα με το εάν διαθέτει ενεργοποίηση ασφαλείας ή όχι. Εάν συνδεθείτε σε ένα μη ασφαλές δίκτυο, θα πρέπει να έχετε υπόψη ότι κάποιος που διαθέτει τα κατάλληλα εργαλεία θα μπορεί να δει οτιδήποτε κάνετε, συμπεριλαμβανομένων των τοποθεσιών Web που επισκέπτεστε, των εγγράφων που επεξεργάζεστε και των ονομάτων χρήστη ή των κωδικών πρόσβασης που χρησιμοποιείτε. Όταν είστε συνδεδεμένοι σ' αυτό το δίκτυο, δεν θα πρέπει να εργάζεστε με έγγραφα ή να επισκέπτεστε τοποθεσίες Web που περιέχουν προσωπικές πληροφορίες, όπως για παράδειγμα τις κινήσεις του λογαριασμού σαςΤα ασύρματα δίκτυα δεν είναι ασφαλή εξ’ ορισμού. Πρέπει να ληφθεί υπόψη η ασφάλιση του δικτύου σε πολλά επίπεδα συμπεριλαμβανομένων του ποιος έχει πρόσβαση στο μέσο καθώς και της παράνομης υποκλοπής δεδομένων. Τεχνολογίες όπως το WPA έχουν μειώσει σημαντικά τους κινδύνους τέτοιων δικτύων. </a:t>
            </a:r>
            <a:r>
              <a:rPr b="0" lang="el-GR" sz="1600" spc="-1" strike="noStrike" u="sng">
                <a:solidFill>
                  <a:srgbClr val="99ff66"/>
                </a:solidFill>
                <a:uFillTx/>
                <a:latin typeface="Comic Sans MS"/>
                <a:hlinkClick r:id="rId1"/>
              </a:rPr>
              <a:t>http://windows.microsoft.com/el-GR/windows-vista/Wireless-networking-frequently-asked-questio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ΤΑΧΥΤΗΤΑ</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ταχύτητες που προσφέρουν τα ασύρματα προς το παρόν, ακόμη και σε ιδανικές συνθήκες σήματος είναι στην καλύτερη περίπτωση 54Mbp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κατά πολύ μικρότερη σε σύγκριση με την ενσύρματη τεχνολογία που επιτυγχάνουμε ρυθμούς μετάδοσης 1 και 10Gbp</a:t>
            </a:r>
            <a:r>
              <a:rPr b="0" lang="en-US" sz="2000" spc="-1" strike="noStrike">
                <a:solidFill>
                  <a:srgbClr val="ffffff"/>
                </a:solidFill>
                <a:latin typeface="Arial"/>
              </a:rPr>
              <a:t>s</a:t>
            </a:r>
            <a:r>
              <a:rPr b="0" lang="el-GR" sz="2000" spc="-1" strike="noStrike">
                <a:solidFill>
                  <a:srgbClr val="ffffff"/>
                </a:solidFill>
                <a:latin typeface="Arial"/>
              </a:rPr>
              <a:t>. </a:t>
            </a:r>
            <a:r>
              <a:rPr b="0" lang="el-GR" sz="2000" spc="-1" strike="noStrike" u="sng">
                <a:solidFill>
                  <a:srgbClr val="99ff66"/>
                </a:solidFill>
                <a:uFillTx/>
                <a:latin typeface="Arial"/>
                <a:hlinkClick r:id="rId1"/>
              </a:rPr>
              <a:t>http://dp.it.teithe.gr/files/ptyxiakes/Asterisk.pdf</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ταχύτητα στο ασύρματο δίκτυο εξαρτάται από το πρωτόκολλο που έχει επιλεγεί αλλά συνήθως είναι εξασθενισμένη και πιο ασταθής από ότι στα συμβατικά δίκτυα. Τα καινούρια δίκτυα επιτρέπουν ταχύτητες μέχρι και 100Mbps και τα παλιότερα δίκτυα των 10Mbps θα μπορούν να χρησιμοποιηθούν παράλληλα.</a:t>
            </a:r>
            <a:br>
              <a:rPr sz="2000"/>
            </a:br>
            <a:r>
              <a:rPr b="0" lang="el-GR" sz="2000" spc="-1" strike="noStrike">
                <a:solidFill>
                  <a:srgbClr val="ffffff"/>
                </a:solidFill>
                <a:latin typeface="Arial"/>
              </a:rPr>
              <a:t>Για τις περισσότερες εφαρμογές τα δίκτυα των 10Mbps και 54Mbps είναι επαρκή εκτός κι αν χρειάζεται να μεταφέρονται μεγάλα αρχεία μεταξύ των υπολογιστών. </a:t>
            </a:r>
            <a:r>
              <a:rPr b="0" lang="el-GR" sz="2000" spc="-1" strike="noStrike" u="sng">
                <a:solidFill>
                  <a:srgbClr val="99ff66"/>
                </a:solidFill>
                <a:uFillTx/>
                <a:latin typeface="Arial"/>
                <a:hlinkClick r:id="rId2"/>
              </a:rPr>
              <a:t>http://users.sch.gr/angnikolou/tech_v/wireless.ht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b7"/>
                </a:solidFill>
                <a:latin typeface="Arial Black"/>
              </a:rPr>
              <a:t>ΚΟΣΤΟΣ ΚΑΙ ΥΓΕΙΑ </a:t>
            </a:r>
            <a:endParaRPr b="1" lang="en-US" sz="36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κόστος είναι ένας ακόμα λόγος που μπορεί ένα ασύρματο δίκτυο να μην πληροί τις ανάγκες σας. Παρόλο που οι τιμές τα τελευταία χρόνια έχουν πέσει αρκετά και οι συσκευές είναι πιο προσιτές στους καταναλωτές παραμένουν να είναι αρκετά ακριβές. Για παράδειγμα: μία κάρτα δικτύου μπορεί να στοιχίζει και 20 Ευρώ ενώ ένα αντίστοιχο σύστημα μπορεί να στοιχίσει ακόμα και δύο με τρεις φορές περισσότερο..</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Υγεία</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 κίνδυνος από την ηλεκτρομαγνητική ακτινοβολία για την ανθρώπινη υγεία  είναι εξαιρετικά δύσκολο να εκτιμηθεί εργαστηριακά, καθώς σε πραγματικές συνθήκες η έκθεση είναι μακροχρόνια και με μικρής ισχύος κύματα. Όλες οι ασύρματες συσκευές που είναι βασισμένες στο 802.11 συνοδεύονται από</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έγκριση ασφαλείας από την ευρωπαϊκή ένωση. Συνολικά και με τα υπάρχοντα επιστημονικά δεδομένα τα ασύρματα δίκτυα κρίνονται ασφαλή. </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Για ειδικές περιπτώσεις π.χ. βηματοδότη ή προβληματικό ιστορικό στις ακτινοβολίες καλό είναι να συμβουλευτούμε τον γιατρό μας.</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http://dp.it.teithe.gr/files/ptyxiakes/Asterisk.pd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   </a:t>
            </a:r>
            <a:r>
              <a:rPr b="1" lang="el-GR" sz="4400" spc="-1" strike="noStrike">
                <a:solidFill>
                  <a:srgbClr val="ffffb7"/>
                </a:solidFill>
                <a:latin typeface="Arial Black"/>
              </a:rPr>
              <a:t>ΠΗΓΕΣ ΠΛΗΡΟΦΟΡΙΩΝ </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windows.microsoft.com/el-GR/windows-vista/Wireless-networking-frequently-asked-ques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de.teikav.edu.gr/telematics/pdf/3o_Meros_Asyrmata_thlematikh.pdf</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dp.it.teithe.gr/files/ptyxiakes/Asterisk.pdf</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users.sch.gr/angnikolou/tech_v/wireless.ht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9:56:32Z</dcterms:created>
  <dc:creator>@</dc:creator>
  <dc:description/>
  <dc:language>en-US</dc:language>
  <cp:lastModifiedBy>ΕΛΕΝΗ</cp:lastModifiedBy>
  <dcterms:modified xsi:type="dcterms:W3CDTF">2012-04-03T13:23:27Z</dcterms:modified>
  <cp:revision>4</cp:revision>
  <dc:subject/>
  <dc:title>ΕΡΓΑΣΙΑ ΑΣΥΡΜΑΤΑ ΔΙΚΤΥΑ                     ΟΜΑΔΑ 3        ΧΑΪΔΕΜΕΝΟΣ ΓΙΩΡΓ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